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F16-D4D8-4CB0-A738-FEB9AD05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812-E605-4FB9-B4BD-8011AB16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BEFB9C-CC4C-4794-B712-C11D6E98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C34034-FBC4-4E7A-98E7-27D088C9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4CFFBA-B4E3-42F8-9E66-39AF0E6B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8ADC1F-EAF6-434D-943F-E0F5AC6F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7FF8DA-68E1-4996-A769-7F6CDDA6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B3E208-C297-4459-AB1D-974C8426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9CF34B-67DB-4252-8A0C-AD60859B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132A08-8175-4DF3-AC1C-F2ECD88E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CB53E6-AAB0-4536-BAF9-60930E8D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DB5569-9ED8-479D-B534-7C8E5065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41D-E04D-4F32-94D4-DF44BFF9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39881D-70BA-4BD2-8CF3-466BA8C0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1F99B7-564A-45AC-968B-513E7E16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3325F2-E921-4E03-B1B0-F193D315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5DF1B0-75E9-4AAE-8F33-2AF6E1FA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65C1A6-8D4D-416C-9268-49CCE614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917086-3373-45C6-86AF-3434FEEB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266A4B-E9EB-4943-BBD5-53BBA95E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256762-84A4-4AFE-869B-4C8266F4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8AB680-CA15-41F7-A069-F2BEC4AD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4E2E63-69DD-40C4-A474-F14DB6DF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20E-411C-4E0B-8495-584727E2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FE4462-969E-48B5-B985-04094313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D5513B-1D4F-47CC-A9E8-93B2141B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CF3CF5-0943-4E18-9155-60EC231B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24E4EB-4B67-411C-87B1-9CA3581C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AC78E1-00B0-4097-A27E-8207C18E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27DD9F-E509-423C-8FB5-313D5885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6E71FA-904C-4C8A-8FD8-CCBCC174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12D001-31A2-45F0-ACDC-4D5E4288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E54531-58A8-4235-A3F7-223B689E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06DC23-5956-46AE-9E69-E7E25874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47EC-601C-44CD-96A6-EF4103A8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BBA841-40B1-4E79-87B4-6EB421B9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6D0F17-AAB0-40A9-B0CE-B203D43A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A3FAE9-6412-479A-9647-2AE1D254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D688DE-816B-4086-957F-B5C3EF55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23364A-AD05-485B-9E05-A2C44A66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27195B-A383-49A2-9579-10B6F3E5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A97E8D-2635-4E70-90C7-BBA809A0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C1CF6D-5666-499C-8E43-DA82A457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5F628D-8416-4FB3-A583-C8B46F42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7B7D7A-452A-4922-BA08-B83588ED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672F-EC1C-4B65-BC75-490ACCE2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332C94-064E-44EF-B7AA-69D62F38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E4D22B-63FB-44DB-A678-D96B5857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7FE18E-8B9F-45BB-9C46-F71D23EE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E3BB80-4D6C-4DBC-84AB-CB8D7E14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4F0C1A-74DA-4B32-A3EF-55C1E44A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45B035-3971-45F9-ABA0-31550A41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36B167-FE01-4E22-9498-320057A9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3F4E01-350E-413C-8368-42386055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D630F5-71B2-4E29-8FFF-7FFFD0BC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AAA2AA-942A-46BC-A730-2583BE08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5ACE-90A4-49A2-8ECD-01D1C1C0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522324-480E-46A7-9974-0FFB9815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6FAC68-23C6-4CA8-B3E8-C0EB5525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1CCCBC-5261-49B5-A9A5-B9D344FA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2EF9FD-BA5B-4AA8-9E1D-F42E7818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C451F6-479E-4622-8CD3-D0C2F159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A868B5-8720-4746-826F-519DBBD6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8D6F90-499F-42BA-966F-F8FDA97C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00FC-E130-4460-9EC9-6C925833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A92E-45D3-4B7B-89B9-D078E96C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43CE-6699-4C13-B14E-6263CE5F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FCAB-1E5E-4D72-94FA-AC47C29D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6FD-9C05-41A7-B512-9FD00833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83EC-70FB-43DF-8D8F-133F73D4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8A9E-917B-4354-8C74-182E9196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12C8-2908-450C-A2C9-A478B0DC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7562-06E0-4DFB-B674-D3545CD7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083A-CEA0-438A-A83A-4130EDE6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3524C-18B2-489E-9E3D-3C9EFE0C2C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E0F2E-AB2F-4386-9391-AE263760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97E2B-F9C1-4E84-89C5-068E9671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28AD4-6D33-41A4-8B87-1FC47AD1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78D3E-6688-4823-BBE5-55788293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6D0-2FDF-44BE-88DD-811D47B0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473F2-5322-4A2C-8044-93073781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07EBD-81B8-4F16-8F84-728939B6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FB5A7-1121-4DE9-837E-6E62EE2E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12A0D-8DE4-49E5-BFB7-D2A205F2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745B5-ED8D-426B-9933-2F228436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78005-6038-49B7-AE88-DD2D77AB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D90EB-FAAE-4F64-80FB-1CCE434E6F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F26B72-7247-4FCF-BDE0-48489F93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D5155B-E896-43FE-9CEB-0C449AE3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C9EB12-D406-46EE-9FC4-613818FA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51A-59DD-4D01-AAB2-0438AB7F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1AE6DB-227C-41DA-8171-5E145204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675586-92AA-4F13-A465-7221D66A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CB8898-E0A9-40DC-AB83-CA067A13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9F8560-A3E7-4A9D-AC8C-CA05CCBA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132945-0E5D-43CE-89CE-31CD9F3D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13405B-FA4B-4F51-9B50-B8E961D9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179A4E-7CCC-4E71-A816-CAA3B1A1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39F83E-ABA7-4860-AA64-98F2C000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6B83A4-12AA-41EE-9AFB-C27973E8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F3DA6-F23D-4C8C-8E83-0BD7FAC0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E6C-3E2A-4F69-B9A7-B4433F53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626598-4486-4E8A-A80A-A74B770E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71808-8C73-4C2F-A7AC-59D20D2B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2C71AA-BB84-4616-B5E2-F80C4B65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D33370-D43D-43A3-8526-36E331B5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BDA1A1-22EC-4BD2-BF3F-2ED510BB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4175FC-3773-41B5-8AE1-D5ECACCF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295074-B432-4470-9403-B2CB1F27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E0986-1248-4185-AACE-6D030690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96DCBC-E576-4ADB-A22A-ACE5694E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780E6C-C371-4BEF-A0A3-F18F88D1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44B-FAC4-4462-8CDF-11D6750E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E4A141-F0A5-422C-A7DD-9411EF97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E21DD-5779-4EFD-8903-0616D232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ECF3F-052E-4615-8D79-FA94A02A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1C25E2-F52A-4BF4-89ED-7B363E4A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4E76B-396A-4D64-9130-DE75D38C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49DB32-68ED-4EBA-A3CA-3BAC648A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AD54AB-0A8E-4A40-9FF8-E275F8FE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E13C2-E92A-4916-B271-2A2431AC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FB6A02-5A09-499B-A121-7EB2580D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3657DC-A7B2-4CB1-996B-E0FF03F0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D83-F718-446D-B068-F464BDD1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A0EB29-D982-4225-AFC8-4813EF36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7A8C39-48AE-486A-9CEE-15377060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C82026-5FFD-46AE-8372-A9C5A913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088A63-B021-4E27-BFC9-1E359D7B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173073-553F-448F-B09F-80992205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95763A-25F6-4296-B031-1401805F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CE7EC5-37CE-42C0-86D0-8A199FB2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83B04-A450-4883-8992-A852B294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3691C-27FC-479B-A03E-3A96571C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0605B9-1731-481A-9029-68DD97E0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6A2-61C8-4C7B-82AF-BD2D1E5C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5AA131-E2DE-4613-894B-186291CF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A2A520-F14B-4A9C-BAA5-A3FB41E2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CAD441-1D3C-47D0-9514-245EE434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7BCE91-0EE2-4BEE-BE0D-C70492ED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D2B87C-C10F-486B-A47A-AE775882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8BC36B-8F02-4511-9232-D64DECA3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0919D9-654E-4C28-B40D-B678C8FD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241C50-AA49-4299-8DD0-69B5A718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2F20F5-40CA-4733-AAED-AA4A4787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65C4BF-940B-4D15-8927-ACC7DD02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BCA-E33F-4374-810A-CBFAE948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75192D-4672-4EEA-A7C1-08489730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149C92-267D-402C-BC12-5A252193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35CA84-9397-45BD-B348-F0ED5113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258006-1112-4CAE-AB0F-D4DBBA91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BB1B0A-8881-48F0-A92D-A92443C6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F48F5F-8D95-4860-8F1C-8111DA29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5BFCEF-EDAA-46C4-8882-50E38B31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D6177E-B6C8-45B8-B953-313F327B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498589-3C65-474C-A3F0-ECC36903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2467A7-0CD7-4DA5-9058-3A10B3E6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529A-1D59-4B98-A5FB-0F9C43D872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9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7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8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9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208D-6E8C-49C8-85F4-128D936AA8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4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0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1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2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2527-42DE-4EB0-B856-7DD1FB9DD9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8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3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4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5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4F6D-1DA3-4E1C-A8DA-DAB1FFC555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53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6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7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8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2FA9-2B9D-496A-AABD-414BD6AE83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15ED-4DEF-406D-AFC6-008207A273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8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0"/>
          <p:cNvSpPr/>
          <p:nvPr/>
        </p:nvSpPr>
        <p:spPr>
          <a:xfrm>
            <a:off x="7391520" y="58672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4771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6552720" y="64771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4CCD-D7E2-4250-BCAB-992D127901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12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0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1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A5B9-B587-4B88-B523-7895407921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17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3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4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4E51-9013-43CC-A17D-4FFFCFBD1C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21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6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7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9A78-1E79-4973-B898-A57148BC7E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26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8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9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0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6D92-FBEB-4453-B9A5-9C2FF2BFD9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0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2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3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AA12-AA9C-4316-8F6D-28598E3542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5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4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5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6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8198-FAAA-40CB-96A3-68A56767DC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65744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Mẫu PowerPoin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5334120" y="6394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êm Slogan 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5d9f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AutoShape 3"/>
          <p:cNvSpPr/>
          <p:nvPr/>
        </p:nvSpPr>
        <p:spPr>
          <a:xfrm>
            <a:off x="1143000" y="17524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9bd092">
                  <a:alpha val="12156"/>
                </a:srgbClr>
              </a:gs>
              <a:gs pos="50000">
                <a:srgbClr val="5ab14b"/>
              </a:gs>
              <a:gs pos="100000">
                <a:srgbClr val="9bd092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Oval 4"/>
          <p:cNvGrpSpPr/>
          <p:nvPr/>
        </p:nvGrpSpPr>
        <p:grpSpPr>
          <a:xfrm>
            <a:off x="1420920" y="2030400"/>
            <a:ext cx="3254400" cy="3254400"/>
            <a:chOff x="1420920" y="2030400"/>
            <a:chExt cx="3254400" cy="3254400"/>
          </a:xfrm>
        </p:grpSpPr>
        <p:pic>
          <p:nvPicPr>
            <p:cNvPr id="583" name="Oval 4" descr=""/>
            <p:cNvPicPr/>
            <p:nvPr/>
          </p:nvPicPr>
          <p:blipFill>
            <a:blip r:embed="rId1"/>
            <a:stretch/>
          </p:blipFill>
          <p:spPr>
            <a:xfrm>
              <a:off x="1420920" y="2030400"/>
              <a:ext cx="325440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1916280" y="2525760"/>
              <a:ext cx="2263680" cy="22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5" name="AutoShape 5"/>
          <p:cNvSpPr/>
          <p:nvPr/>
        </p:nvSpPr>
        <p:spPr>
          <a:xfrm>
            <a:off x="3852720" y="20829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AutoShape 6"/>
          <p:cNvSpPr/>
          <p:nvPr/>
        </p:nvSpPr>
        <p:spPr>
          <a:xfrm>
            <a:off x="4183200" y="27446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AutoShape 7"/>
          <p:cNvSpPr/>
          <p:nvPr/>
        </p:nvSpPr>
        <p:spPr>
          <a:xfrm>
            <a:off x="4449600" y="34052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AutoShape 8"/>
          <p:cNvSpPr/>
          <p:nvPr/>
        </p:nvSpPr>
        <p:spPr>
          <a:xfrm>
            <a:off x="4183200" y="40654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AutoShape 9"/>
          <p:cNvSpPr/>
          <p:nvPr/>
        </p:nvSpPr>
        <p:spPr>
          <a:xfrm>
            <a:off x="3852720" y="47275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1538280" y="3124080"/>
            <a:ext cx="29923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"Thêm Slogan tại đây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592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593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597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0" name="Text Box 12"/>
            <p:cNvSpPr/>
            <p:nvPr/>
          </p:nvSpPr>
          <p:spPr>
            <a:xfrm>
              <a:off x="3830400" y="245412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2074680" y="34448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2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603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6" name="Text Box 18"/>
            <p:cNvSpPr/>
            <p:nvPr/>
          </p:nvSpPr>
          <p:spPr>
            <a:xfrm>
              <a:off x="5580000" y="34448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608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1" name="Text Box 23"/>
            <p:cNvSpPr/>
            <p:nvPr/>
          </p:nvSpPr>
          <p:spPr>
            <a:xfrm>
              <a:off x="3852720" y="43592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3"/>
          <p:cNvSpPr/>
          <p:nvPr/>
        </p:nvSpPr>
        <p:spPr>
          <a:xfrm>
            <a:off x="152280" y="1295280"/>
            <a:ext cx="5943600" cy="4496040"/>
          </a:xfrm>
          <a:prstGeom prst="rightArrow">
            <a:avLst>
              <a:gd name="adj1" fmla="val 79306"/>
              <a:gd name="adj2" fmla="val 32743"/>
            </a:avLst>
          </a:prstGeom>
          <a:gradFill rotWithShape="0">
            <a:gsLst>
              <a:gs pos="0">
                <a:srgbClr val="508fd4"/>
              </a:gs>
              <a:gs pos="100000">
                <a:srgbClr val="727e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AutoShape 4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AutoShape 5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610236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01"/>
                </a:solidFill>
                <a:latin typeface="Arial"/>
              </a:rPr>
              <a:t>Tiêu đ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28893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0" y="29415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Group 5"/>
          <p:cNvGrpSpPr/>
          <p:nvPr/>
        </p:nvGrpSpPr>
        <p:grpSpPr>
          <a:xfrm>
            <a:off x="4906440" y="3214080"/>
            <a:ext cx="1703520" cy="2679120"/>
            <a:chOff x="4906440" y="3214080"/>
            <a:chExt cx="1703520" cy="2679120"/>
          </a:xfrm>
        </p:grpSpPr>
        <p:grpSp>
          <p:nvGrpSpPr>
            <p:cNvPr id="623" name="Group 6"/>
            <p:cNvGrpSpPr/>
            <p:nvPr/>
          </p:nvGrpSpPr>
          <p:grpSpPr>
            <a:xfrm>
              <a:off x="4906440" y="3392640"/>
              <a:ext cx="1577160" cy="2500560"/>
              <a:chOff x="4906440" y="3392640"/>
              <a:chExt cx="1577160" cy="2500560"/>
            </a:xfrm>
          </p:grpSpPr>
          <p:sp>
            <p:nvSpPr>
              <p:cNvPr id="624" name="Freeform 7"/>
              <p:cNvSpPr/>
              <p:nvPr/>
            </p:nvSpPr>
            <p:spPr>
              <a:xfrm rot="3876600">
                <a:off x="444312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8"/>
              <p:cNvSpPr/>
              <p:nvPr/>
            </p:nvSpPr>
            <p:spPr>
              <a:xfrm rot="3876600">
                <a:off x="594756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6" name="Group 9"/>
            <p:cNvGrpSpPr/>
            <p:nvPr/>
          </p:nvGrpSpPr>
          <p:grpSpPr>
            <a:xfrm>
              <a:off x="5400000" y="3214080"/>
              <a:ext cx="1209960" cy="1918800"/>
              <a:chOff x="5400000" y="3214080"/>
              <a:chExt cx="1209960" cy="1918800"/>
            </a:xfrm>
          </p:grpSpPr>
          <p:sp>
            <p:nvSpPr>
              <p:cNvPr id="627" name="Freeform 10"/>
              <p:cNvSpPr/>
              <p:nvPr/>
            </p:nvSpPr>
            <p:spPr>
              <a:xfrm flipV="1" rot="3876600">
                <a:off x="5044320" y="39596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1"/>
              <p:cNvSpPr/>
              <p:nvPr/>
            </p:nvSpPr>
            <p:spPr>
              <a:xfrm flipV="1" rot="3876600">
                <a:off x="6181560" y="47106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9" name="Group 12"/>
          <p:cNvGrpSpPr/>
          <p:nvPr/>
        </p:nvGrpSpPr>
        <p:grpSpPr>
          <a:xfrm>
            <a:off x="4427640" y="2292480"/>
            <a:ext cx="1439640" cy="1439640"/>
            <a:chOff x="4427640" y="2292480"/>
            <a:chExt cx="1439640" cy="1439640"/>
          </a:xfrm>
        </p:grpSpPr>
        <p:sp>
          <p:nvSpPr>
            <p:cNvPr id="630" name="Oval 13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Oval 14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Oval 15"/>
            <p:cNvSpPr/>
            <p:nvPr/>
          </p:nvSpPr>
          <p:spPr>
            <a:xfrm>
              <a:off x="452268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Oval 16"/>
            <p:cNvSpPr/>
            <p:nvPr/>
          </p:nvSpPr>
          <p:spPr>
            <a:xfrm>
              <a:off x="452268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Oval 17"/>
            <p:cNvSpPr/>
            <p:nvPr/>
          </p:nvSpPr>
          <p:spPr>
            <a:xfrm>
              <a:off x="458460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5" name="Group 18"/>
            <p:cNvGrpSpPr/>
            <p:nvPr/>
          </p:nvGrpSpPr>
          <p:grpSpPr>
            <a:xfrm>
              <a:off x="4602240" y="2467080"/>
              <a:ext cx="1090440" cy="1092240"/>
              <a:chOff x="4602240" y="2467080"/>
              <a:chExt cx="1090440" cy="1092240"/>
            </a:xfrm>
          </p:grpSpPr>
          <p:sp>
            <p:nvSpPr>
              <p:cNvPr id="636" name="Oval 19"/>
              <p:cNvSpPr/>
              <p:nvPr/>
            </p:nvSpPr>
            <p:spPr>
              <a:xfrm>
                <a:off x="460224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Oval 20"/>
              <p:cNvSpPr/>
              <p:nvPr/>
            </p:nvSpPr>
            <p:spPr>
              <a:xfrm>
                <a:off x="461592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Oval 21"/>
              <p:cNvSpPr/>
              <p:nvPr/>
            </p:nvSpPr>
            <p:spPr>
              <a:xfrm>
                <a:off x="462744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Oval 22"/>
              <p:cNvSpPr/>
              <p:nvPr/>
            </p:nvSpPr>
            <p:spPr>
              <a:xfrm>
                <a:off x="468648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0" name="Group 23"/>
          <p:cNvGrpSpPr/>
          <p:nvPr/>
        </p:nvGrpSpPr>
        <p:grpSpPr>
          <a:xfrm>
            <a:off x="7138440" y="3287160"/>
            <a:ext cx="1703520" cy="2679120"/>
            <a:chOff x="7138440" y="3287160"/>
            <a:chExt cx="1703520" cy="2679120"/>
          </a:xfrm>
        </p:grpSpPr>
        <p:grpSp>
          <p:nvGrpSpPr>
            <p:cNvPr id="641" name="Group 24"/>
            <p:cNvGrpSpPr/>
            <p:nvPr/>
          </p:nvGrpSpPr>
          <p:grpSpPr>
            <a:xfrm>
              <a:off x="7138440" y="3465720"/>
              <a:ext cx="1577160" cy="2500560"/>
              <a:chOff x="7138440" y="3465720"/>
              <a:chExt cx="1577160" cy="2500560"/>
            </a:xfrm>
          </p:grpSpPr>
          <p:sp>
            <p:nvSpPr>
              <p:cNvPr id="642" name="Freeform 25"/>
              <p:cNvSpPr/>
              <p:nvPr/>
            </p:nvSpPr>
            <p:spPr>
              <a:xfrm rot="3876600">
                <a:off x="6675120" y="4437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26"/>
              <p:cNvSpPr/>
              <p:nvPr/>
            </p:nvSpPr>
            <p:spPr>
              <a:xfrm rot="3876600">
                <a:off x="8179560" y="54054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4" name="Group 27"/>
            <p:cNvGrpSpPr/>
            <p:nvPr/>
          </p:nvGrpSpPr>
          <p:grpSpPr>
            <a:xfrm>
              <a:off x="7632000" y="3287160"/>
              <a:ext cx="1209960" cy="1918800"/>
              <a:chOff x="7632000" y="3287160"/>
              <a:chExt cx="1209960" cy="1918800"/>
            </a:xfrm>
          </p:grpSpPr>
          <p:sp>
            <p:nvSpPr>
              <p:cNvPr id="645" name="Freeform 28"/>
              <p:cNvSpPr/>
              <p:nvPr/>
            </p:nvSpPr>
            <p:spPr>
              <a:xfrm flipV="1" rot="3876600">
                <a:off x="7276320" y="4032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29"/>
              <p:cNvSpPr/>
              <p:nvPr/>
            </p:nvSpPr>
            <p:spPr>
              <a:xfrm flipV="1" rot="3876600">
                <a:off x="8413560" y="4783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7" name="Oval 30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Oval 31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Oval 32"/>
          <p:cNvSpPr/>
          <p:nvPr/>
        </p:nvSpPr>
        <p:spPr>
          <a:xfrm>
            <a:off x="6558120" y="22464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Oval 33"/>
          <p:cNvSpPr/>
          <p:nvPr/>
        </p:nvSpPr>
        <p:spPr>
          <a:xfrm>
            <a:off x="6559560" y="22496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Oval 34"/>
          <p:cNvSpPr/>
          <p:nvPr/>
        </p:nvSpPr>
        <p:spPr>
          <a:xfrm>
            <a:off x="6632640" y="23223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Group 35"/>
          <p:cNvGrpSpPr/>
          <p:nvPr/>
        </p:nvGrpSpPr>
        <p:grpSpPr>
          <a:xfrm>
            <a:off x="6653160" y="2343240"/>
            <a:ext cx="1311480" cy="1309680"/>
            <a:chOff x="6653160" y="2343240"/>
            <a:chExt cx="1311480" cy="1309680"/>
          </a:xfrm>
        </p:grpSpPr>
        <p:sp>
          <p:nvSpPr>
            <p:cNvPr id="653" name="Oval 36"/>
            <p:cNvSpPr/>
            <p:nvPr/>
          </p:nvSpPr>
          <p:spPr>
            <a:xfrm>
              <a:off x="6653160" y="23432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Oval 37"/>
            <p:cNvSpPr/>
            <p:nvPr/>
          </p:nvSpPr>
          <p:spPr>
            <a:xfrm>
              <a:off x="6669720" y="23504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Oval 38"/>
            <p:cNvSpPr/>
            <p:nvPr/>
          </p:nvSpPr>
          <p:spPr>
            <a:xfrm>
              <a:off x="6683400" y="23630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Oval 39"/>
            <p:cNvSpPr/>
            <p:nvPr/>
          </p:nvSpPr>
          <p:spPr>
            <a:xfrm>
              <a:off x="6754680" y="23965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7" name="Group 40"/>
          <p:cNvGrpSpPr/>
          <p:nvPr/>
        </p:nvGrpSpPr>
        <p:grpSpPr>
          <a:xfrm>
            <a:off x="2858760" y="3213720"/>
            <a:ext cx="1704240" cy="2679480"/>
            <a:chOff x="2858760" y="3213720"/>
            <a:chExt cx="1704240" cy="2679480"/>
          </a:xfrm>
        </p:grpSpPr>
        <p:grpSp>
          <p:nvGrpSpPr>
            <p:cNvPr id="658" name="Group 41"/>
            <p:cNvGrpSpPr/>
            <p:nvPr/>
          </p:nvGrpSpPr>
          <p:grpSpPr>
            <a:xfrm>
              <a:off x="2858760" y="3392640"/>
              <a:ext cx="1577160" cy="2500560"/>
              <a:chOff x="2858760" y="3392640"/>
              <a:chExt cx="1577160" cy="2500560"/>
            </a:xfrm>
          </p:grpSpPr>
          <p:sp>
            <p:nvSpPr>
              <p:cNvPr id="659" name="Freeform 42"/>
              <p:cNvSpPr/>
              <p:nvPr/>
            </p:nvSpPr>
            <p:spPr>
              <a:xfrm rot="3876600">
                <a:off x="239544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43"/>
              <p:cNvSpPr/>
              <p:nvPr/>
            </p:nvSpPr>
            <p:spPr>
              <a:xfrm rot="3876600">
                <a:off x="389988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1" name="Group 44"/>
            <p:cNvGrpSpPr/>
            <p:nvPr/>
          </p:nvGrpSpPr>
          <p:grpSpPr>
            <a:xfrm>
              <a:off x="3352680" y="3213720"/>
              <a:ext cx="1210320" cy="1918800"/>
              <a:chOff x="3352680" y="3213720"/>
              <a:chExt cx="1210320" cy="1918800"/>
            </a:xfrm>
          </p:grpSpPr>
          <p:sp>
            <p:nvSpPr>
              <p:cNvPr id="662" name="Freeform 45"/>
              <p:cNvSpPr/>
              <p:nvPr/>
            </p:nvSpPr>
            <p:spPr>
              <a:xfrm flipV="1" rot="3876600">
                <a:off x="2997360" y="39592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46"/>
              <p:cNvSpPr/>
              <p:nvPr/>
            </p:nvSpPr>
            <p:spPr>
              <a:xfrm flipV="1" rot="3876600">
                <a:off x="4134600" y="47102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4" name="Group 47"/>
          <p:cNvGrpSpPr/>
          <p:nvPr/>
        </p:nvGrpSpPr>
        <p:grpSpPr>
          <a:xfrm>
            <a:off x="2379600" y="2292480"/>
            <a:ext cx="1439640" cy="1439640"/>
            <a:chOff x="2379600" y="2292480"/>
            <a:chExt cx="1439640" cy="1439640"/>
          </a:xfrm>
        </p:grpSpPr>
        <p:sp>
          <p:nvSpPr>
            <p:cNvPr id="665" name="Oval 48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Oval 49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Oval 50"/>
            <p:cNvSpPr/>
            <p:nvPr/>
          </p:nvSpPr>
          <p:spPr>
            <a:xfrm>
              <a:off x="247464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Oval 51"/>
            <p:cNvSpPr/>
            <p:nvPr/>
          </p:nvSpPr>
          <p:spPr>
            <a:xfrm>
              <a:off x="247464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Oval 52"/>
            <p:cNvSpPr/>
            <p:nvPr/>
          </p:nvSpPr>
          <p:spPr>
            <a:xfrm>
              <a:off x="253656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0" name="Group 53"/>
            <p:cNvGrpSpPr/>
            <p:nvPr/>
          </p:nvGrpSpPr>
          <p:grpSpPr>
            <a:xfrm>
              <a:off x="2554200" y="2467080"/>
              <a:ext cx="1090440" cy="1092240"/>
              <a:chOff x="2554200" y="2467080"/>
              <a:chExt cx="1090440" cy="1092240"/>
            </a:xfrm>
          </p:grpSpPr>
          <p:sp>
            <p:nvSpPr>
              <p:cNvPr id="671" name="Oval 54"/>
              <p:cNvSpPr/>
              <p:nvPr/>
            </p:nvSpPr>
            <p:spPr>
              <a:xfrm>
                <a:off x="255420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Oval 55"/>
              <p:cNvSpPr/>
              <p:nvPr/>
            </p:nvSpPr>
            <p:spPr>
              <a:xfrm>
                <a:off x="256788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Oval 56"/>
              <p:cNvSpPr/>
              <p:nvPr/>
            </p:nvSpPr>
            <p:spPr>
              <a:xfrm>
                <a:off x="257940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Oval 57"/>
              <p:cNvSpPr/>
              <p:nvPr/>
            </p:nvSpPr>
            <p:spPr>
              <a:xfrm>
                <a:off x="263844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58"/>
          <p:cNvGrpSpPr/>
          <p:nvPr/>
        </p:nvGrpSpPr>
        <p:grpSpPr>
          <a:xfrm>
            <a:off x="875880" y="3213720"/>
            <a:ext cx="1704240" cy="2679480"/>
            <a:chOff x="875880" y="3213720"/>
            <a:chExt cx="1704240" cy="2679480"/>
          </a:xfrm>
        </p:grpSpPr>
        <p:grpSp>
          <p:nvGrpSpPr>
            <p:cNvPr id="676" name="Group 59"/>
            <p:cNvGrpSpPr/>
            <p:nvPr/>
          </p:nvGrpSpPr>
          <p:grpSpPr>
            <a:xfrm>
              <a:off x="875880" y="3392640"/>
              <a:ext cx="1577160" cy="2500560"/>
              <a:chOff x="875880" y="3392640"/>
              <a:chExt cx="1577160" cy="2500560"/>
            </a:xfrm>
          </p:grpSpPr>
          <p:sp>
            <p:nvSpPr>
              <p:cNvPr id="677" name="Freeform 60"/>
              <p:cNvSpPr/>
              <p:nvPr/>
            </p:nvSpPr>
            <p:spPr>
              <a:xfrm rot="3876600">
                <a:off x="41256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61"/>
              <p:cNvSpPr/>
              <p:nvPr/>
            </p:nvSpPr>
            <p:spPr>
              <a:xfrm rot="3876600">
                <a:off x="191700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9" name="Group 62"/>
            <p:cNvGrpSpPr/>
            <p:nvPr/>
          </p:nvGrpSpPr>
          <p:grpSpPr>
            <a:xfrm>
              <a:off x="1369800" y="3213720"/>
              <a:ext cx="1210320" cy="1918800"/>
              <a:chOff x="1369800" y="3213720"/>
              <a:chExt cx="1210320" cy="1918800"/>
            </a:xfrm>
          </p:grpSpPr>
          <p:sp>
            <p:nvSpPr>
              <p:cNvPr id="680" name="Freeform 63"/>
              <p:cNvSpPr/>
              <p:nvPr/>
            </p:nvSpPr>
            <p:spPr>
              <a:xfrm flipV="1" rot="3876600">
                <a:off x="1014480" y="39592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64"/>
              <p:cNvSpPr/>
              <p:nvPr/>
            </p:nvSpPr>
            <p:spPr>
              <a:xfrm flipV="1" rot="3876600">
                <a:off x="2151720" y="47102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2" name="Group 65"/>
          <p:cNvGrpSpPr/>
          <p:nvPr/>
        </p:nvGrpSpPr>
        <p:grpSpPr>
          <a:xfrm>
            <a:off x="396720" y="2292480"/>
            <a:ext cx="1439640" cy="1439640"/>
            <a:chOff x="396720" y="2292480"/>
            <a:chExt cx="1439640" cy="1439640"/>
          </a:xfrm>
        </p:grpSpPr>
        <p:sp>
          <p:nvSpPr>
            <p:cNvPr id="683" name="Oval 66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Oval 67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Oval 68"/>
            <p:cNvSpPr/>
            <p:nvPr/>
          </p:nvSpPr>
          <p:spPr>
            <a:xfrm>
              <a:off x="49176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Oval 69"/>
            <p:cNvSpPr/>
            <p:nvPr/>
          </p:nvSpPr>
          <p:spPr>
            <a:xfrm>
              <a:off x="49176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Oval 70"/>
            <p:cNvSpPr/>
            <p:nvPr/>
          </p:nvSpPr>
          <p:spPr>
            <a:xfrm>
              <a:off x="55368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Group 71"/>
            <p:cNvGrpSpPr/>
            <p:nvPr/>
          </p:nvGrpSpPr>
          <p:grpSpPr>
            <a:xfrm>
              <a:off x="571320" y="2467080"/>
              <a:ext cx="1090440" cy="1092240"/>
              <a:chOff x="571320" y="2467080"/>
              <a:chExt cx="1090440" cy="1092240"/>
            </a:xfrm>
          </p:grpSpPr>
          <p:sp>
            <p:nvSpPr>
              <p:cNvPr id="689" name="Oval 72"/>
              <p:cNvSpPr/>
              <p:nvPr/>
            </p:nvSpPr>
            <p:spPr>
              <a:xfrm>
                <a:off x="57132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Oval 73"/>
              <p:cNvSpPr/>
              <p:nvPr/>
            </p:nvSpPr>
            <p:spPr>
              <a:xfrm>
                <a:off x="58500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Oval 74"/>
              <p:cNvSpPr/>
              <p:nvPr/>
            </p:nvSpPr>
            <p:spPr>
              <a:xfrm>
                <a:off x="59652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Oval 75"/>
              <p:cNvSpPr/>
              <p:nvPr/>
            </p:nvSpPr>
            <p:spPr>
              <a:xfrm>
                <a:off x="65556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93" name="Text Box 76"/>
          <p:cNvSpPr/>
          <p:nvPr/>
        </p:nvSpPr>
        <p:spPr>
          <a:xfrm rot="3925800">
            <a:off x="8694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 Box 77"/>
          <p:cNvSpPr/>
          <p:nvPr/>
        </p:nvSpPr>
        <p:spPr>
          <a:xfrm rot="3925800">
            <a:off x="138384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 Box 84"/>
          <p:cNvSpPr/>
          <p:nvPr/>
        </p:nvSpPr>
        <p:spPr>
          <a:xfrm>
            <a:off x="78120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85"/>
          <p:cNvSpPr/>
          <p:nvPr/>
        </p:nvSpPr>
        <p:spPr>
          <a:xfrm>
            <a:off x="277164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 Box 86"/>
          <p:cNvSpPr/>
          <p:nvPr/>
        </p:nvSpPr>
        <p:spPr>
          <a:xfrm>
            <a:off x="475308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 Box 87"/>
          <p:cNvSpPr/>
          <p:nvPr/>
        </p:nvSpPr>
        <p:spPr>
          <a:xfrm>
            <a:off x="679968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9" name="AutoShape 88"/>
          <p:cNvCxnSpPr>
            <a:stCxn id="695" idx="3"/>
            <a:endCxn id="696" idx="1"/>
          </p:cNvCxnSpPr>
          <p:nvPr/>
        </p:nvCxnSpPr>
        <p:spPr>
          <a:xfrm>
            <a:off x="1520640" y="1827000"/>
            <a:ext cx="1216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0" name="AutoShape 89"/>
          <p:cNvCxnSpPr>
            <a:stCxn id="696" idx="3"/>
            <a:endCxn id="697" idx="1"/>
          </p:cNvCxnSpPr>
          <p:nvPr/>
        </p:nvCxnSpPr>
        <p:spPr>
          <a:xfrm>
            <a:off x="3511440" y="1827000"/>
            <a:ext cx="120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1" name="AutoShape 90"/>
          <p:cNvCxnSpPr>
            <a:stCxn id="697" idx="3"/>
            <a:endCxn id="698" idx="1"/>
          </p:cNvCxnSpPr>
          <p:nvPr/>
        </p:nvCxnSpPr>
        <p:spPr>
          <a:xfrm>
            <a:off x="5492520" y="1827360"/>
            <a:ext cx="1213560" cy="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02" name="Text Box 76"/>
          <p:cNvSpPr/>
          <p:nvPr/>
        </p:nvSpPr>
        <p:spPr>
          <a:xfrm rot="3925800">
            <a:off x="28332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77"/>
          <p:cNvSpPr/>
          <p:nvPr/>
        </p:nvSpPr>
        <p:spPr>
          <a:xfrm rot="3925800">
            <a:off x="334764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 Box 76"/>
          <p:cNvSpPr/>
          <p:nvPr/>
        </p:nvSpPr>
        <p:spPr>
          <a:xfrm rot="3925800">
            <a:off x="490644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77"/>
          <p:cNvSpPr/>
          <p:nvPr/>
        </p:nvSpPr>
        <p:spPr>
          <a:xfrm rot="3925800">
            <a:off x="542088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76"/>
          <p:cNvSpPr/>
          <p:nvPr/>
        </p:nvSpPr>
        <p:spPr>
          <a:xfrm rot="3925800">
            <a:off x="70812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77"/>
          <p:cNvSpPr/>
          <p:nvPr/>
        </p:nvSpPr>
        <p:spPr>
          <a:xfrm rot="3925800">
            <a:off x="759600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WordArt 7"/>
          <p:cNvSpPr txBox="1"/>
          <p:nvPr/>
        </p:nvSpPr>
        <p:spPr>
          <a:xfrm>
            <a:off x="609480" y="1600200"/>
            <a:ext cx="4876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CẢM ƠN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09" name="Text Box 8"/>
          <p:cNvSpPr/>
          <p:nvPr/>
        </p:nvSpPr>
        <p:spPr>
          <a:xfrm>
            <a:off x="5334120" y="6394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êm Slogan 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5d9f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05:37:07Z</dcterms:created>
  <dc:creator>Carcassonno</dc:creator>
  <dc:description/>
  <dc:language>en-US</dc:language>
  <cp:lastModifiedBy>Asus</cp:lastModifiedBy>
  <dcterms:modified xsi:type="dcterms:W3CDTF">2018-11-13T08:48:38Z</dcterms:modified>
  <cp:revision>5</cp:revision>
  <dc:subject/>
  <dc:title>PowerPoint Template</dc:title>
</cp:coreProperties>
</file>